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FC308-493B-4286-8AD2-61FAEA712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8003B-02FD-47E4-BFD6-EBE596962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49D9E-5FBA-4CF9-8E7A-E5328E36E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BB599-44D7-40D2-A0C0-9657D127F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1BD13B-BBC0-443A-A3FB-716772EE6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E04B5-AFAF-492A-BF0C-8E19784EC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9385D-82D1-4029-B2FA-95121EEC8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795CF-F791-43E0-A1A3-0C7EFD8B1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CEB1E-F5A4-4A85-91E5-C5A7A4A18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3F612-D38F-4294-80FD-2D7CD3438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F5659-2ED4-480A-A629-A9C8B9C82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1A789-A78F-430F-9AB4-F0F708894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594EC-43DB-4BE9-8931-445B56A3D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5D8CE-B00C-4C07-A84E-A760AF15E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F70A6-2A02-45C7-96FE-889314073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B58853-E6FF-4401-B48C-3BA57A634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163AF4-A6C3-4FAF-856F-921E350A8F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C6B59-B466-4E3D-98BE-E05F2E7B8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0FBB2-AD6F-4580-B20B-8E3CF8718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B37FD-57F1-4A1F-863C-6CFE0AB53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8B2D2-D85B-467C-9714-6007D1E1F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5477E-4EC4-4FDC-8AFD-B3C95A39B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81943-48AE-449C-8BBC-7B274D86F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C6ED4-D128-4852-98DC-255337494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C5691-0EB2-489D-821D-EF02FF6CF090}"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9913-5A45-48E5-99E2-F620CA0067A5}"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400" spc="-1" strike="noStrike">
                <a:solidFill>
                  <a:srgbClr val="000000"/>
                </a:solidFill>
                <a:latin typeface="Arial"/>
              </a:rPr>
              <a:t>ΣΤΡΕΣ-</a:t>
            </a:r>
            <a:br>
              <a:rPr sz="5400"/>
            </a:br>
            <a:r>
              <a:rPr b="0" lang="el-GR" sz="5400" spc="-1" strike="noStrike">
                <a:solidFill>
                  <a:srgbClr val="000000"/>
                </a:solidFill>
                <a:latin typeface="Arial"/>
              </a:rPr>
              <a:t>ΕΡΓΑΣΙΑΚΟ ΣΤΡΕΣ</a:t>
            </a:r>
            <a:endParaRPr b="0" lang="en-US" sz="5400" spc="-1" strike="noStrike">
              <a:solidFill>
                <a:srgbClr val="8c0039"/>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Ι. ΦΡΑΓΚΟΥΛΗΣ</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Καθηγητής ΑΣΠΑΙΤΕ</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Τεχνικές αντιμετώπισης εργασιακού στρες  2/3</a:t>
            </a:r>
            <a:endParaRPr b="0" lang="en-US" sz="3600" spc="-1" strike="noStrike">
              <a:solidFill>
                <a:srgbClr val="8c0039"/>
              </a:solidFill>
              <a:latin typeface="Arial"/>
            </a:endParaRPr>
          </a:p>
        </p:txBody>
      </p:sp>
      <p:sp>
        <p:nvSpPr>
          <p:cNvPr id="10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Χρησιμοποιήστε τεχνικές χαλάρωσης και διαλογισμού, που βοηθούν στο να μειωθεί η ένταση στους μύες και βοηθούν την αναπνοή να επανέλθει στον φυσιολογικό της ρυθμό.</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Μην αφήνετε μισοτελειωμένες εργασίες.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Τεχνικές αντιμετώπισης εργασιακού στρες  3/3</a:t>
            </a:r>
            <a:endParaRPr b="0" lang="en-US" sz="3600" spc="-1" strike="noStrike">
              <a:solidFill>
                <a:srgbClr val="8c0039"/>
              </a:solidFill>
              <a:latin typeface="Arial"/>
            </a:endParaRPr>
          </a:p>
        </p:txBody>
      </p:sp>
      <p:sp>
        <p:nvSpPr>
          <p:cNvPr id="108"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φήστε χρόνο στο πρόγραμμα σας για κοινωνική και προσωπική ζωή ή έστω για ξεκούραση. </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Συστημική Θεωρία</a:t>
            </a:r>
            <a:endParaRPr b="0" lang="en-US" sz="3600" spc="-1" strike="noStrike">
              <a:solidFill>
                <a:srgbClr val="8c0039"/>
              </a:solidFill>
              <a:latin typeface="Arial"/>
            </a:endParaRPr>
          </a:p>
        </p:txBody>
      </p:sp>
      <p:sp>
        <p:nvSpPr>
          <p:cNvPr id="11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Βασική θέση της Συστημικής Θεωρίας είναι η άποψη ότι </a:t>
            </a:r>
            <a:r>
              <a:rPr b="1" lang="el-GR" sz="2800" spc="-1" strike="noStrike">
                <a:solidFill>
                  <a:srgbClr val="000000"/>
                </a:solidFill>
                <a:latin typeface="Arial"/>
              </a:rPr>
              <a:t>το όλο είναι διαφορετικό από το άθροισμα των μερών του. </a:t>
            </a:r>
            <a:r>
              <a:rPr b="0" lang="el-GR" sz="2800" spc="-1" strike="noStrike">
                <a:solidFill>
                  <a:srgbClr val="000000"/>
                </a:solidFill>
                <a:latin typeface="Arial"/>
              </a:rPr>
              <a:t>Αυτό συμβαίνει, γιατί ένα σύστημα περιλαμβάνει εκτός από το σύνολο των ενοτήτων του και μεταξύ των ενοτήτων σχέσεις. Με τον τρόπο αυτό, το ΟΛΟ είναι διαφορετικό από το σύνολο των επιμέρους στοιχείων του.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1/5</a:t>
            </a:r>
            <a:endParaRPr b="0" lang="en-US" sz="3600" spc="-1" strike="noStrike">
              <a:solidFill>
                <a:srgbClr val="8c0039"/>
              </a:solidFill>
              <a:latin typeface="Arial"/>
            </a:endParaRPr>
          </a:p>
        </p:txBody>
      </p:sp>
      <p:sp>
        <p:nvSpPr>
          <p:cNvPr id="112" name="PlaceHolder 2"/>
          <p:cNvSpPr>
            <a:spLocks noGrp="1"/>
          </p:cNvSpPr>
          <p:nvPr>
            <p:ph/>
          </p:nvPr>
        </p:nvSpPr>
        <p:spPr>
          <a:xfrm>
            <a:off x="2438280" y="1600200"/>
            <a:ext cx="6400800" cy="4495680"/>
          </a:xfrm>
          <a:prstGeom prst="rect">
            <a:avLst/>
          </a:prstGeom>
          <a:noFill/>
          <a:ln w="0">
            <a:noFill/>
          </a:ln>
        </p:spPr>
        <p:txBody>
          <a:bodyPr anchor="t">
            <a:normAutofit fontScale="99000"/>
          </a:bodyPr>
          <a:p>
            <a:pPr marL="603360" indent="-60336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σδιορισμός αρνητικών παραγόντων (παραγόντων που συνθέτουν την προβληματική κατάσταση)</a:t>
            </a:r>
            <a:endParaRPr b="0" lang="en-US" sz="2800" spc="-1" strike="noStrike">
              <a:solidFill>
                <a:srgbClr val="000000"/>
              </a:solidFill>
              <a:latin typeface="Arial"/>
            </a:endParaRPr>
          </a:p>
          <a:p>
            <a:pPr marL="603360" indent="-60336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λεγχος των συνθηκών κάτω από τις οποίες εκδηλώνεται η αγχογόνος συμπεριφορά</a:t>
            </a:r>
            <a:endParaRPr b="0" lang="en-US" sz="2800" spc="-1" strike="noStrike">
              <a:solidFill>
                <a:srgbClr val="000000"/>
              </a:solidFill>
              <a:latin typeface="Arial"/>
            </a:endParaRPr>
          </a:p>
          <a:p>
            <a:pPr marL="603360" indent="-60336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σδιορισμός των συνεπειών που προκύπτουν από την αγχογόνο συμπεριφορά</a:t>
            </a:r>
            <a:endParaRPr b="0" lang="en-US" sz="2800" spc="-1" strike="noStrike">
              <a:solidFill>
                <a:srgbClr val="000000"/>
              </a:solidFill>
              <a:latin typeface="Arial"/>
            </a:endParaRPr>
          </a:p>
          <a:p>
            <a:pPr marL="603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2/5</a:t>
            </a:r>
            <a:endParaRPr b="0" lang="en-US" sz="3600" spc="-1" strike="noStrike">
              <a:solidFill>
                <a:srgbClr val="8c0039"/>
              </a:solidFill>
              <a:latin typeface="Arial"/>
            </a:endParaRPr>
          </a:p>
        </p:txBody>
      </p:sp>
      <p:sp>
        <p:nvSpPr>
          <p:cNvPr id="114"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60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Έλεγχος των δικών μας αντιδράσεων</a:t>
            </a:r>
            <a:endParaRPr b="0" lang="en-US" sz="3200" spc="-1" strike="noStrike">
              <a:solidFill>
                <a:srgbClr val="000000"/>
              </a:solidFill>
              <a:latin typeface="Arial"/>
            </a:endParaRPr>
          </a:p>
          <a:p>
            <a:pPr marL="609480" indent="-60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ζήτηση – συνεργασία με συναδέλφους</a:t>
            </a:r>
            <a:endParaRPr b="0" lang="en-US" sz="3200" spc="-1" strike="noStrike">
              <a:solidFill>
                <a:srgbClr val="000000"/>
              </a:solidFill>
              <a:latin typeface="Arial"/>
            </a:endParaRPr>
          </a:p>
          <a:p>
            <a:pPr marL="609480" indent="-60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άλυση στοιχείων που συνθέτουν την προβληματική κατάσταση</a:t>
            </a:r>
            <a:endParaRPr b="0" lang="en-US" sz="3200" spc="-1" strike="noStrike">
              <a:solidFill>
                <a:srgbClr val="000000"/>
              </a:solidFill>
              <a:latin typeface="Arial"/>
            </a:endParaRPr>
          </a:p>
          <a:p>
            <a:pPr marL="609480" indent="-60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νεργητική ακρόαση συναδέλφων</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3/5</a:t>
            </a:r>
            <a:endParaRPr b="0" lang="en-US" sz="3600" spc="-1" strike="noStrike">
              <a:solidFill>
                <a:srgbClr val="8c0039"/>
              </a:solidFill>
              <a:latin typeface="Arial"/>
            </a:endParaRPr>
          </a:p>
        </p:txBody>
      </p:sp>
      <p:sp>
        <p:nvSpPr>
          <p:cNvPr id="116"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6094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ζήτηση- συνεργασία με προϊσταμένο/ ους</a:t>
            </a:r>
            <a:endParaRPr b="0" lang="en-US" sz="3200" spc="-1" strike="noStrike">
              <a:solidFill>
                <a:srgbClr val="000000"/>
              </a:solidFill>
              <a:latin typeface="Arial"/>
            </a:endParaRPr>
          </a:p>
          <a:p>
            <a:pPr marL="609480" indent="-6094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άλυση στοιχείων που συνθέτουν την προβληματική κατάσταση</a:t>
            </a:r>
            <a:endParaRPr b="0" lang="en-US" sz="3200" spc="-1" strike="noStrike">
              <a:solidFill>
                <a:srgbClr val="000000"/>
              </a:solidFill>
              <a:latin typeface="Arial"/>
            </a:endParaRPr>
          </a:p>
          <a:p>
            <a:pPr marL="609480" indent="-6094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νεργητική ακρόαση προϊσταμένων</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4/5</a:t>
            </a:r>
            <a:endParaRPr b="0" lang="en-US" sz="3600" spc="-1" strike="noStrike">
              <a:solidFill>
                <a:srgbClr val="8c0039"/>
              </a:solidFill>
              <a:latin typeface="Arial"/>
            </a:endParaRPr>
          </a:p>
        </p:txBody>
      </p:sp>
      <p:sp>
        <p:nvSpPr>
          <p:cNvPr id="118"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60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ζήτηση- συνεργασία με άλλους εμπλεκόμενους στη στρεσογόνο κατάσταση ( πχ. συναδέλφους, στελέχη επιχείρησης κτλ)</a:t>
            </a:r>
            <a:endParaRPr b="0" lang="en-US" sz="2800" spc="-1" strike="noStrike">
              <a:solidFill>
                <a:srgbClr val="000000"/>
              </a:solidFill>
              <a:latin typeface="Arial"/>
            </a:endParaRPr>
          </a:p>
          <a:p>
            <a:pPr marL="609480" indent="-60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θορισμός μικρών επιτεύξιμων στόχων-  ενεργειών για την αντιμετώπιση της στρεσογόνου κατάστασης</a:t>
            </a:r>
            <a:endParaRPr b="0" lang="en-US" sz="2800" spc="-1" strike="noStrike">
              <a:solidFill>
                <a:srgbClr val="000000"/>
              </a:solidFill>
              <a:latin typeface="Arial"/>
            </a:endParaRPr>
          </a:p>
          <a:p>
            <a:pPr marL="609480" indent="-60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μόρφωση κατάλληλου επικοινωνιακού κλίματος στο χώρο της εργασίας</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5/5</a:t>
            </a:r>
            <a:endParaRPr b="0" lang="en-US" sz="3600" spc="-1" strike="noStrike">
              <a:solidFill>
                <a:srgbClr val="8c0039"/>
              </a:solidFill>
              <a:latin typeface="Arial"/>
            </a:endParaRPr>
          </a:p>
        </p:txBody>
      </p:sp>
      <p:sp>
        <p:nvSpPr>
          <p:cNvPr id="12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ξιολόγηση – συνεχή αποτίμηση  διαδικασίας άμβλυνσης του εργασιακού στρες</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νεχής  μεταπαρακολούθηση αξιοποιώντας το σχήμα (ενεργώ – παρατηρώ-   στοχάζομαι- αναθεωρώ)</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Στρες</a:t>
            </a:r>
            <a:endParaRPr b="0" lang="en-US" sz="3600" spc="-1" strike="noStrike">
              <a:solidFill>
                <a:srgbClr val="8c0039"/>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λέξη «στρες» αποτελεί τον αγγλικό όρο (stress) αυτού που ονομάζουμε στα ελληνικά «ψυχοκοινωνική πίεση». Αφορά ακριβώς στο αίσθημα που έχουμε όταν δεχόμαστε πιέσεις είτε από το εξωτερικό περιβάλλον (π.χ. οικογένεια, σχέσεις, εργασία, κοινωνικό περίγυρο) είτε από τον εαυτό μας (προσδοκίες, απαιτήσεις κτλ.) και στον τρόπο με τον οποίο αντιδρούμε όταν δεχόμαστε αυτές τις πιέσεις. </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8c0039"/>
                </a:solidFill>
                <a:latin typeface="Arial"/>
              </a:rPr>
              <a:t>ΤΑ ΕΙΔΗ ΤΟΥ ΣΤΡΕΣ</a:t>
            </a:r>
            <a:r>
              <a:rPr b="0" lang="el-GR" sz="3600" spc="-1" strike="noStrike">
                <a:solidFill>
                  <a:srgbClr val="8c0039"/>
                </a:solidFill>
                <a:latin typeface="Arial"/>
              </a:rPr>
              <a:t> </a:t>
            </a:r>
            <a:endParaRPr b="0" lang="en-US" sz="3600" spc="-1" strike="noStrike">
              <a:solidFill>
                <a:srgbClr val="8c0039"/>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Έντονο στρες</a:t>
            </a:r>
            <a:r>
              <a:rPr b="0" lang="el-G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Επεισοδιακό οξύ στρες</a:t>
            </a:r>
            <a:r>
              <a:rPr b="0" lang="el-G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Χρόνιο στρες</a:t>
            </a:r>
            <a:r>
              <a:rPr b="0" lang="el-G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Rectangle 4"/>
          <p:cNvSpPr/>
          <p:nvPr/>
        </p:nvSpPr>
        <p:spPr>
          <a:xfrm>
            <a:off x="37224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8c0039"/>
                </a:solidFill>
                <a:latin typeface="Arial"/>
              </a:rPr>
              <a:t>ΤΑ ΣΥΜΠΤΩΜΑΤΑ ΤΟΥ ΕΝΤΟΝΟΥ ΣΤΡΕΣ</a:t>
            </a:r>
            <a:r>
              <a:rPr b="0" lang="el-GR" sz="3600" spc="-1" strike="noStrike">
                <a:solidFill>
                  <a:srgbClr val="8c0039"/>
                </a:solidFill>
                <a:latin typeface="Arial"/>
              </a:rPr>
              <a:t> </a:t>
            </a:r>
            <a:endParaRPr b="0" lang="en-US" sz="36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Πεδίο συναισθημάτω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Πεδίο σκέψη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Πεδίο συμπεριφορά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Πεδίο  σωματικ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Παράγοντες που προκαλούν στρες</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προσδοκίες,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επιθυμίες,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συνθήκες του περιβάλλοντος, όπως αυτές γίνονται αντιληπτές,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ελλιπής κοινωνική υποστήριξη,</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 αρνητικός τρόπος με τον οποίο αντιμετωπίζουμε τα πράγματα, </a:t>
            </a:r>
            <a:br>
              <a:rPr sz="2400"/>
            </a:br>
            <a:r>
              <a:rPr b="0" lang="el-GR" sz="2400" spc="-1" strike="noStrike">
                <a:solidFill>
                  <a:srgbClr val="000000"/>
                </a:solidFill>
                <a:latin typeface="Arial"/>
              </a:rPr>
              <a:t>ορισμένες αρνητικές συνήθειες (π.χ., η τελειομανία), </a:t>
            </a:r>
            <a:br>
              <a:rPr sz="2400"/>
            </a:br>
            <a:r>
              <a:rPr b="0" lang="el-G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οιχεία της προσωπικότητας και της ιδιοσυγκρασίας,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Τρεις συμβουλές για την αντιμετώπιση του Στρες</a:t>
            </a: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Χαλάρωση από ένταση</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τιμετώπιση αγχογόνου συναισθήματος</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Έλεγχος δυσάρεστων σκέψεων</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σύγχρονη νόσος των στελεχών.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To στρες είναι ίσως η πιο συχνή λέξη στην καθημερινότητα μας. Σε πολλές έρευνες και συνεντεύξεις με Έλληνες εργαζόμενους, είναι σαφές ότι η εντατικοποίηση της σύγχρονης εργασίας και οι αυξημένες απαιτήσεις των εργοδοτών ή -καλύτερα- της απρόσωπης εταιρείας βλάπτουν σοβαρά την υγεία. </a:t>
            </a:r>
            <a:endParaRPr b="0" lang="en-US" sz="2800" spc="-1" strike="noStrike">
              <a:solidFill>
                <a:srgbClr val="000000"/>
              </a:solidFill>
              <a:latin typeface="Arial"/>
            </a:endParaRPr>
          </a:p>
        </p:txBody>
      </p:sp>
      <p:sp>
        <p:nvSpPr>
          <p:cNvPr id="100" name="PlaceHolder 2"/>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Εργασιακό στρες</a:t>
            </a:r>
            <a:endParaRPr b="0" lang="en-US" sz="3600" spc="-1" strike="noStrike">
              <a:solidFill>
                <a:srgbClr val="8c003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Παράγοντες που προκαλούν εργασιακό στρες</a:t>
            </a:r>
            <a:endParaRPr b="0" lang="en-US" sz="3600" spc="-1" strike="noStrike">
              <a:solidFill>
                <a:srgbClr val="8c0039"/>
              </a:solidFill>
              <a:latin typeface="Arial"/>
            </a:endParaRPr>
          </a:p>
        </p:txBody>
      </p:sp>
      <p:sp>
        <p:nvSpPr>
          <p:cNvPr id="102"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οι εργαζόμενοι δεν έχουν ξεκάθαρη εικόνα των αρμοδιοτήτων τους.</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έχουν Υψηλό βαθμό ευθυνών.</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δεν συμμετέχουν οι εργαζόμενοι στη  λήψη αποφάσεων.</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αισθάνονται ανασφαλείς σε ό,τι αφορά τη θέση τους.</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αντιμετωπίζουν προβλήματα επικοινωνίας με συναδέλφους, προϊσταμένους ή υφισταμένους.</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έχουν την αίσθηση ότι δεν αναγνωρίζεται / εκτιμάται η εργασία τους.</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γίνονται συνεχείς αλλαγές/ ανακατατάξεις στον οργανισμό.</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Τεχνικές αντιμετώπισης εργασιακού στρες  1/3</a:t>
            </a:r>
            <a:endParaRPr b="0" lang="en-US" sz="3600" spc="-1" strike="noStrike">
              <a:solidFill>
                <a:srgbClr val="8c0039"/>
              </a:solidFill>
              <a:latin typeface="Arial"/>
            </a:endParaRPr>
          </a:p>
        </p:txBody>
      </p:sp>
      <p:sp>
        <p:nvSpPr>
          <p:cNvPr id="104"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ην αγνοείτε το πρόβλημα με την ελπίδα ότι θα περάσει </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αγνωρίστε τι μπορεί να αλλάξετε</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ειώστε την ένταση των συναισθηματικών σας αντιδράσεων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9T17:58:16Z</dcterms:created>
  <dc:creator>ΠΑΤΡΑ 2006</dc:creator>
  <dc:description/>
  <dc:language>en-US</dc:language>
  <cp:lastModifiedBy>Γεώργιος Φραγκούλης</cp:lastModifiedBy>
  <dcterms:modified xsi:type="dcterms:W3CDTF">2022-05-02T15:17:03Z</dcterms:modified>
  <cp:revision>13</cp:revision>
  <dc:subject/>
  <dc:title>Διαφάνεια 1</dc:title>
</cp:coreProperties>
</file>